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9E0-28B4-4915-9FD5-B3E57C8E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6EF-C931-46C7-AB08-4B721330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9DA-AEDF-46CD-868B-C450192E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9C8-5E76-4D99-837E-C2F36178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235-F460-47B3-B3CF-E2E9336C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A9D9-F369-40D0-8C29-7AED4CBC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6C0-43B8-4D63-B756-B61CC71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A0A-A567-4C97-9EA6-9450C23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CAA1-232D-42D9-8845-864971C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1F8-06BA-4CD0-B3E2-5A090FD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30B7-554B-465F-9243-D7A9919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043-B173-4A09-8E01-7E742FF1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F93-F9DD-4D32-B625-00A19CA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2C68-00A7-4686-AA60-2067F55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70C1-F662-4A8F-B787-6C317CA2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3609-AD2D-49DD-A2D3-70F73824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E41-2DF8-48DA-AA6B-5B76161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A6B-EBAE-4B39-8974-7F8345CF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AEC-CEAB-4CEE-BAFA-6ACDB3CE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202-E2A9-4C65-A97A-23AD7019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632-DEAF-4C58-A5F3-A92F682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55B-DCDB-43AE-9DC6-783DE29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7BE-CFC2-46A7-A37E-B7899B9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19C-08A3-4155-B90B-BAC8D6A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96B-4916-439E-BF83-0EB1102BD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989-53A6-4416-8CA6-B598F5F04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oscience.org/atlases/cdrom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l Cycle and Mit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ntrolled Cel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oes a cell become cancerou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o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tation in DNA causes the cell to continue divi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mor-Supressor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gene normally tells the cell to stop divi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ncer cells this gene has been changed, or mut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tumors, but ineffective if the cancer has spre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mitosis, so cancer cells are especially vulne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coupled with temporary bone marrow transpla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ective if the cancer has spread, because the entire body cannot be irradia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atments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es on a wide variety of drugs to find cancer cells and destroy them, or to prevent the formation of supporting tissue (e.g. new blood vesse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ortunately, these drugs also kill healthy cells (hair follicles and intestinal lining), producing the well-known side effects of hair loss and nau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thought impossible due to diverse nature of cancer, but now there is some hope through of  the action of new antibod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ghting Cancer: Bef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lly intact cancer cell surrounded by the immune system’s killer t-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the tentacles of the cancer c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cancertc.jpg (20165 bytes)"/>
          <p:cNvPicPr/>
          <p:nvPr/>
        </p:nvPicPr>
        <p:blipFill>
          <a:blip r:embed="rId1"/>
          <a:stretch/>
        </p:blipFill>
        <p:spPr>
          <a:xfrm>
            <a:off x="4038480" y="1447920"/>
            <a:ext cx="4402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ghting Cancer: Af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cancer is completely flattened and totally destroy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-cell pokes holes in the cell membrane of the cancer cell, allowing fluid and salts enter so that the target cell eventually bur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10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controlled Cell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sp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gnant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 to other cells and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remove because it invades so may oth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ign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ign tum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wart 2.jpg (128916 bytes)"/>
          <p:cNvPicPr/>
          <p:nvPr/>
        </p:nvPicPr>
        <p:blipFill>
          <a:blip r:embed="rId1"/>
          <a:stretch/>
        </p:blipFill>
        <p:spPr>
          <a:xfrm>
            <a:off x="4114800" y="1219320"/>
            <a:ext cx="3490920" cy="361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wart 2.jpg (128916 bytes)"/>
          <p:cNvPicPr/>
          <p:nvPr/>
        </p:nvPicPr>
        <p:blipFill>
          <a:blip r:embed="rId2"/>
          <a:stretch/>
        </p:blipFill>
        <p:spPr>
          <a:xfrm>
            <a:off x="2438280" y="3505320"/>
            <a:ext cx="2440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as uncontrolled cell division coupled with the capacity to spread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sta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to other locations in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cer cells actually build new blood vessels to send blood to the center of a t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icular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32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d and white areas are cance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48765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magn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3760"/>
            <a:ext cx="5867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6216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571500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419720" y="457200"/>
            <a:ext cx="4419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ung Canc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01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y vs. Canc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567160" cy="3772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22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ncer cells are characterized by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ntact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continue to grow and divide even after contacting oth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"anchorage" depend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need to be attached to an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quirement for external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ells rely on hormones to tell them when and how to g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different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stay immature instead of changing into skin cells, heart cells, lung cell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23:53:51Z</dcterms:created>
  <dc:creator>System Operations</dc:creator>
  <dc:description/>
  <dc:language>en-US</dc:language>
  <cp:lastModifiedBy>Tera Linn</cp:lastModifiedBy>
  <dcterms:modified xsi:type="dcterms:W3CDTF">2011-03-23T14:25:19Z</dcterms:modified>
  <cp:revision>7</cp:revision>
  <dc:subject/>
  <dc:title>Cell Cycle and Mitosis</dc:title>
</cp:coreProperties>
</file>